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BDE-065E-4877-8DE7-A5CDD335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60D-F596-4E07-B036-4B5BEA68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F12B-1F95-4525-8579-9A5F6787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ADC-2A82-4A53-8CDF-ED5D6C56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24F9-B285-4D0A-A05B-E556DDEF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47AC-66F8-4E3B-A278-BF138679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61E7-EDDB-4960-834F-58095D7C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E4D4-CE0D-4BAD-A427-FE37AC53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03D5-2994-4827-929B-A70F4EFA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CE68-FDEA-47D9-BF19-90505400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E481-5E46-44A1-AF42-01595284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A3F-E1BB-41C5-A9CD-DF5170F1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C3B8-884F-4F17-A5B7-10FA5887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EC03-4AA0-4DE3-AA63-DBFB62C4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6296-141B-4B4A-97E7-7CFCBC3B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4BC9-CB68-4318-9495-E6D2EB67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D24E-A873-489C-A98C-A5A807CF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777-2EBC-487E-8A3B-429E4F45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DAE-2F77-481B-A5AC-A267FA6A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B28-E3F8-4F1B-AD03-E34055AD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3EC-D87B-4BD7-BEB6-652C4ABA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69E-1D6E-4181-BF48-F34A5071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3C6-3C3E-4191-BFAC-21DAD470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8DE-A2DB-4C26-838C-2A62E377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2BD4-97EC-4747-BC3F-722C55ACC4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360E-9110-499F-BC20-DE22056B0C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7.06-7.07</a:t>
            </a: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Architectural Terms and Feature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erior Elev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awings that show the </a:t>
            </a:r>
            <a:r>
              <a:rPr b="1" lang="en-US" sz="4400" spc="-1" strike="noStrike" u="sng">
                <a:solidFill>
                  <a:srgbClr val="ff6699"/>
                </a:solidFill>
                <a:uFillTx/>
                <a:latin typeface="Arial"/>
              </a:rPr>
              <a:t>OUTSIDE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 structure. Usually show all 4 sides but only 1 side at a 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erior Elev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ior Elev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ows the </a:t>
            </a:r>
            <a:r>
              <a:rPr b="1" lang="en-US" sz="4400" spc="-1" strike="noStrike" u="sng">
                <a:solidFill>
                  <a:srgbClr val="ff6699"/>
                </a:solidFill>
                <a:uFillTx/>
                <a:latin typeface="Arial"/>
              </a:rPr>
              <a:t>interio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a room as seen from some point and looking at a specific 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5929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ailed Vie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enlargement view of some part of the construction….kitchen cabinet, fireplace, window, et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ailed Elev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Interior Elevation"/>
          <p:cNvPicPr/>
          <p:nvPr/>
        </p:nvPicPr>
        <p:blipFill>
          <a:blip r:embed="rId1"/>
          <a:stretch/>
        </p:blipFill>
        <p:spPr>
          <a:xfrm>
            <a:off x="457200" y="1676520"/>
            <a:ext cx="3922560" cy="3962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Detail view of window"/>
          <p:cNvPicPr/>
          <p:nvPr/>
        </p:nvPicPr>
        <p:blipFill>
          <a:blip r:embed="rId2"/>
          <a:stretch/>
        </p:blipFill>
        <p:spPr>
          <a:xfrm>
            <a:off x="4876920" y="1523880"/>
            <a:ext cx="33336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ction Vie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ew that is taken from an imaginary cut through a part of the structure such as a 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8120" y="762120"/>
            <a:ext cx="35510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DD- Computer aided drafting and de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vantages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 Can do drawings very quickl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 Can make changes quickl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. ALWAYS accurate with measur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 Expensive softwar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 Must know computer syste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nder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rawing done in color or i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mpla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utout pattern of furniture, appliances and fixtures scaled to actual dimen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Drawing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in information about size, shape and location of all parts of the ho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is a universal language of lines, symbols, views and notes to convey ideas about the structur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aw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rmally drawn at ¼” = 1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is also known as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nt or Bluepri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py of a technical drawing showing how the whole structure will be buil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are several sections such 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9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9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umb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9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gh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9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uepri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blue prints"/>
          <p:cNvPicPr/>
          <p:nvPr/>
        </p:nvPicPr>
        <p:blipFill>
          <a:blip r:embed="rId1"/>
          <a:stretch/>
        </p:blipFill>
        <p:spPr>
          <a:xfrm>
            <a:off x="1828800" y="1981080"/>
            <a:ext cx="563868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resent the plumbing, electrical, fixtures, windows, doors, and other common symbol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so show the direction and types of doors and wind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Architectural Symbols"/>
          <p:cNvPicPr/>
          <p:nvPr/>
        </p:nvPicPr>
        <p:blipFill>
          <a:blip r:embed="rId1"/>
          <a:stretch/>
        </p:blipFill>
        <p:spPr>
          <a:xfrm>
            <a:off x="1981080" y="533520"/>
            <a:ext cx="47628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3151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7:02:01Z</dcterms:created>
  <dc:creator>s.brooks</dc:creator>
  <dc:description/>
  <dc:language>en-US</dc:language>
  <cp:lastModifiedBy>s.brooks</cp:lastModifiedBy>
  <dcterms:modified xsi:type="dcterms:W3CDTF">2009-11-06T13:45:40Z</dcterms:modified>
  <cp:revision>4</cp:revision>
  <dc:subject/>
  <dc:title>7.06-7.07  Architectural Terms and Features</dc:title>
</cp:coreProperties>
</file>